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25A-52AB-4D0F-90BE-0C72F85E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959-6CEE-4A8D-BB84-1C9C31B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661-E04D-4341-9F04-13252A0A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C8D-D8B3-4261-A545-B0B2B6A5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63B-8C9A-415C-B5E1-33C01ADA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17E-EFDA-406C-ACA1-98152609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809-C926-4D6B-89F1-5DEEE35A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564-CAED-4EB9-B8DD-DA9493D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A58-D90A-4DA5-B91F-898AA736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F5E-F5D8-4F84-8DA6-2A7BB6A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7EB-8788-4F62-A04E-75482D9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F60-C65B-4ABF-954B-DFA8A0F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F2F-8D82-4035-881B-088AA3B6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storyoftheancientworld.com/wp-content/uploads/2009/12/Athens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4006800" cy="401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the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096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OAN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679920"/>
            <a:ext cx="5943600" cy="317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106668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19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523880"/>
            <a:ext cx="2209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te ~ Kn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25146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– 140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5146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a system of writing, fine artwork, great sailors, traded with Mesopotamia, Egypt, and Phoenicia, master builders of palaces that were maze like with plumbing and decorated with colorful m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CENAEAN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cena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mainland/ Myce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 – 11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cities on top of hills, very similar to the Minoans – sailors, trade, palaces, and writing, conquered the Min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313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RK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rs from northern Greece who came to middle and southern Gre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 – 8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came to a stop, written language disappeared, people lived in isolated villages, oral traditions kept Greek history alive, population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829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 of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ish – 5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ges grow and develop back into cities, trade comes back and increases, leaders emerge in each city, city-states {an independent, self governing city and the land around it} develop and begin to fight one and compete against one another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4481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M-UP: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438280"/>
            <a:ext cx="3504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ur ages that made up the origins of Ancient Greece and one or two important facts about each age you na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219320"/>
            <a:ext cx="8153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lands were stepping stones by which civilization spread from Egypt and Mesopotamia westward into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oans had running water, fresco paintings, women were equal to men, they had writing and artists, made ornaments and figures out of ivory, bronze, gold, and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oans had colonies on the Aegean Islands, in Greece and in Asia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eks adopting the culture of the Minoans means that the Minoan culture was more advanced and better than that of the Gr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ans of C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609480"/>
            <a:ext cx="617220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9480"/>
            <a:ext cx="601992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28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N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YCENA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838080"/>
            <a:ext cx="198144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rst 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med after King M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d minitar and bull f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n for pottery c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 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akened by fire, earthquakes, tidal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near A –                                                                 cannot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143000"/>
            <a:ext cx="160020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 Greek ma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d walls that were 40 ft. high and 20 ft. th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Known for bronze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inear B –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al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ll to outs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057400"/>
            <a:ext cx="19047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for record 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pa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into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farers - sai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9:09:07Z</dcterms:created>
  <dc:creator>gehadde</dc:creator>
  <dc:description/>
  <dc:language>en-US</dc:language>
  <cp:lastModifiedBy>gehadde</cp:lastModifiedBy>
  <dcterms:modified xsi:type="dcterms:W3CDTF">2012-04-25T13:09:58Z</dcterms:modified>
  <cp:revision>26</cp:revision>
  <dc:subject/>
  <dc:title>WARM-UP: #2</dc:title>
</cp:coreProperties>
</file>